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13A2-8EC7-4D05-A227-0EE8A1DDF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A109-F72B-43E0-A09C-AEE7E82DC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E8BD-87AD-4169-A690-26E6086BC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B001-DA7B-461F-916D-BFC95A671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D4F1-AC25-4218-A521-1C9589AA5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E895-0107-4D14-80E1-BF640528A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F65E-620D-4AEA-A37C-59191B141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FB48-9663-4ED7-923B-F211CD27B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8013-312D-4CF1-861E-6B17667E2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4487-B303-4D81-B013-BCC1A022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8CA2-DB18-4E18-95A1-CB0E31327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B976-3C89-43E7-ACA0-6D7BF7425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657D0-8E5D-4926-A45D-F507A32FF1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jpe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 17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0" y="16002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UMFRIESSHIRE  ASSOC.       DUMFRIESSHIRE  ASSOC.  DUNFRIESSHIRE  ASSOC.  50TH     KIRKCUDBRICHTSHIRE  ASSOC.             STEWARTRY  ASSOC.                      STEWARTRY  ASSO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6"/>
          <p:cNvSpPr/>
          <p:nvPr/>
        </p:nvSpPr>
        <p:spPr>
          <a:xfrm>
            <a:off x="0" y="3276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TEWARTY  ASSOC  50TH                          ANNAN                                            ANNAN                                ANNAN  EX  SERVICEMEN                     AUCHENCAIRN                                     AUCHENCAIR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3"/>
          <p:cNvSpPr/>
          <p:nvPr/>
        </p:nvSpPr>
        <p:spPr>
          <a:xfrm>
            <a:off x="0" y="49528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EECHGROVE - MOFFAT                    CASTLE  DOUGLAS                          CREETOWN                                         CREETOWN                                     CREETOWN                                    CRICHTON  ROY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0"/>
          <p:cNvSpPr/>
          <p:nvPr/>
        </p:nvSpPr>
        <p:spPr>
          <a:xfrm>
            <a:off x="0" y="66438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RICHTON  ROYAL                          CRICHTON  ROYAL                               DALBEATTIE                                 DALBEATTIE                                    DALBEATTIE                              DALBEATTIE  1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25" descr="Dumfries Assoc 1"/>
          <p:cNvPicPr/>
          <p:nvPr/>
        </p:nvPicPr>
        <p:blipFill>
          <a:blip r:embed="rId1"/>
          <a:stretch/>
        </p:blipFill>
        <p:spPr>
          <a:xfrm>
            <a:off x="560520" y="549360"/>
            <a:ext cx="1042920" cy="1023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7" descr="Kirkcudbright Assoc"/>
          <p:cNvPicPr/>
          <p:nvPr/>
        </p:nvPicPr>
        <p:blipFill>
          <a:blip r:embed="rId2"/>
          <a:stretch/>
        </p:blipFill>
        <p:spPr>
          <a:xfrm>
            <a:off x="4881600" y="260280"/>
            <a:ext cx="1152360" cy="1339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8" descr="Stewarty Assoc 1"/>
          <p:cNvPicPr/>
          <p:nvPr/>
        </p:nvPicPr>
        <p:blipFill>
          <a:blip r:embed="rId3"/>
          <a:stretch/>
        </p:blipFill>
        <p:spPr>
          <a:xfrm>
            <a:off x="8193240" y="333360"/>
            <a:ext cx="1116000" cy="1289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0" descr="Stewarty Assoc 50th"/>
          <p:cNvPicPr/>
          <p:nvPr/>
        </p:nvPicPr>
        <p:blipFill>
          <a:blip r:embed="rId4"/>
          <a:stretch/>
        </p:blipFill>
        <p:spPr>
          <a:xfrm>
            <a:off x="488880" y="1844640"/>
            <a:ext cx="1133640" cy="1463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1" descr="Annan 1"/>
          <p:cNvPicPr/>
          <p:nvPr/>
        </p:nvPicPr>
        <p:blipFill>
          <a:blip r:embed="rId5"/>
          <a:stretch/>
        </p:blipFill>
        <p:spPr>
          <a:xfrm>
            <a:off x="1928880" y="2276640"/>
            <a:ext cx="1060560" cy="1047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3" descr="Annan 3"/>
          <p:cNvPicPr/>
          <p:nvPr/>
        </p:nvPicPr>
        <p:blipFill>
          <a:blip r:embed="rId6"/>
          <a:stretch/>
        </p:blipFill>
        <p:spPr>
          <a:xfrm>
            <a:off x="3440160" y="2349360"/>
            <a:ext cx="1023840" cy="987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4" descr="Annan Ex Servicemen"/>
          <p:cNvPicPr/>
          <p:nvPr/>
        </p:nvPicPr>
        <p:blipFill>
          <a:blip r:embed="rId7"/>
          <a:stretch/>
        </p:blipFill>
        <p:spPr>
          <a:xfrm>
            <a:off x="5024520" y="2060640"/>
            <a:ext cx="1138320" cy="1230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5" descr="Auchincairn 1"/>
          <p:cNvPicPr/>
          <p:nvPr/>
        </p:nvPicPr>
        <p:blipFill>
          <a:blip r:embed="rId8"/>
          <a:stretch/>
        </p:blipFill>
        <p:spPr>
          <a:xfrm>
            <a:off x="6537240" y="2133720"/>
            <a:ext cx="1133640" cy="1143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6" descr="Auchincairn 2"/>
          <p:cNvPicPr/>
          <p:nvPr/>
        </p:nvPicPr>
        <p:blipFill>
          <a:blip r:embed="rId9"/>
          <a:stretch/>
        </p:blipFill>
        <p:spPr>
          <a:xfrm>
            <a:off x="8193240" y="2205000"/>
            <a:ext cx="1152360" cy="1120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7" descr="Beechgrove"/>
          <p:cNvPicPr/>
          <p:nvPr/>
        </p:nvPicPr>
        <p:blipFill>
          <a:blip r:embed="rId10"/>
          <a:stretch/>
        </p:blipFill>
        <p:spPr>
          <a:xfrm>
            <a:off x="488880" y="3933720"/>
            <a:ext cx="1079640" cy="1060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8" descr="Castle Douglas 1"/>
          <p:cNvPicPr/>
          <p:nvPr/>
        </p:nvPicPr>
        <p:blipFill>
          <a:blip r:embed="rId11"/>
          <a:stretch/>
        </p:blipFill>
        <p:spPr>
          <a:xfrm>
            <a:off x="2144880" y="3860640"/>
            <a:ext cx="858600" cy="10479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0" descr="Creetown 1"/>
          <p:cNvPicPr/>
          <p:nvPr/>
        </p:nvPicPr>
        <p:blipFill>
          <a:blip r:embed="rId12"/>
          <a:stretch/>
        </p:blipFill>
        <p:spPr>
          <a:xfrm>
            <a:off x="5097600" y="4005360"/>
            <a:ext cx="1023840" cy="996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1" descr="Creetown 2"/>
          <p:cNvPicPr/>
          <p:nvPr/>
        </p:nvPicPr>
        <p:blipFill>
          <a:blip r:embed="rId13"/>
          <a:stretch/>
        </p:blipFill>
        <p:spPr>
          <a:xfrm>
            <a:off x="6608880" y="4005360"/>
            <a:ext cx="1060200" cy="1009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2" descr="Crichton Royal 1"/>
          <p:cNvPicPr/>
          <p:nvPr/>
        </p:nvPicPr>
        <p:blipFill>
          <a:blip r:embed="rId14"/>
          <a:stretch/>
        </p:blipFill>
        <p:spPr>
          <a:xfrm>
            <a:off x="8337600" y="4221000"/>
            <a:ext cx="877680" cy="777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3" descr="Crichton Royal 2"/>
          <p:cNvPicPr/>
          <p:nvPr/>
        </p:nvPicPr>
        <p:blipFill>
          <a:blip r:embed="rId15"/>
          <a:stretch/>
        </p:blipFill>
        <p:spPr>
          <a:xfrm>
            <a:off x="2073240" y="5589720"/>
            <a:ext cx="1006560" cy="1133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4" descr="Dalbeatie 1"/>
          <p:cNvPicPr/>
          <p:nvPr/>
        </p:nvPicPr>
        <p:blipFill>
          <a:blip r:embed="rId16"/>
          <a:stretch/>
        </p:blipFill>
        <p:spPr>
          <a:xfrm>
            <a:off x="3657600" y="5661000"/>
            <a:ext cx="1023840" cy="1009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9" descr="Crichton Royal 2"/>
          <p:cNvPicPr/>
          <p:nvPr/>
        </p:nvPicPr>
        <p:blipFill>
          <a:blip r:embed="rId17"/>
          <a:stretch/>
        </p:blipFill>
        <p:spPr>
          <a:xfrm>
            <a:off x="631800" y="5661000"/>
            <a:ext cx="878040" cy="1023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2" descr="Dumfries Assoc 3"/>
          <p:cNvPicPr/>
          <p:nvPr/>
        </p:nvPicPr>
        <p:blipFill>
          <a:blip r:embed="rId18"/>
          <a:stretch/>
        </p:blipFill>
        <p:spPr>
          <a:xfrm>
            <a:off x="1857240" y="549360"/>
            <a:ext cx="1163880" cy="1096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3" descr="Dumfries Assoc 50th"/>
          <p:cNvPicPr/>
          <p:nvPr/>
        </p:nvPicPr>
        <p:blipFill>
          <a:blip r:embed="rId19"/>
          <a:stretch/>
        </p:blipFill>
        <p:spPr>
          <a:xfrm>
            <a:off x="3297240" y="260280"/>
            <a:ext cx="1200240" cy="1371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4" descr="Stewarty Assoc 2"/>
          <p:cNvPicPr/>
          <p:nvPr/>
        </p:nvPicPr>
        <p:blipFill>
          <a:blip r:embed="rId20"/>
          <a:stretch/>
        </p:blipFill>
        <p:spPr>
          <a:xfrm>
            <a:off x="6537240" y="260280"/>
            <a:ext cx="1170000" cy="1325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2" descr="Dalbeattie 2.JPG"/>
          <p:cNvPicPr/>
          <p:nvPr/>
        </p:nvPicPr>
        <p:blipFill>
          <a:blip r:embed="rId21"/>
          <a:stretch/>
        </p:blipFill>
        <p:spPr>
          <a:xfrm>
            <a:off x="5097600" y="5589720"/>
            <a:ext cx="1077840" cy="1118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3" descr="Dalbeattie 3.JPG"/>
          <p:cNvPicPr/>
          <p:nvPr/>
        </p:nvPicPr>
        <p:blipFill>
          <a:blip r:embed="rId22"/>
          <a:stretch/>
        </p:blipFill>
        <p:spPr>
          <a:xfrm>
            <a:off x="6681960" y="5661000"/>
            <a:ext cx="1023840" cy="1023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4" descr="Creetown 1.jpg"/>
          <p:cNvPicPr/>
          <p:nvPr/>
        </p:nvPicPr>
        <p:blipFill>
          <a:blip r:embed="rId23"/>
          <a:stretch/>
        </p:blipFill>
        <p:spPr>
          <a:xfrm>
            <a:off x="3513240" y="3716280"/>
            <a:ext cx="1041120" cy="1266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5" descr="Dalbeattie 150th.jpg"/>
          <p:cNvPicPr/>
          <p:nvPr/>
        </p:nvPicPr>
        <p:blipFill>
          <a:blip r:embed="rId24"/>
          <a:stretch/>
        </p:blipFill>
        <p:spPr>
          <a:xfrm>
            <a:off x="8265960" y="5589720"/>
            <a:ext cx="95256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30T18:25:29Z</dcterms:created>
  <dc:creator>JOHN YOUNG</dc:creator>
  <dc:description/>
  <dc:language>en-US</dc:language>
  <cp:lastModifiedBy>John</cp:lastModifiedBy>
  <cp:lastPrinted>2000-10-08T22:25:23Z</cp:lastPrinted>
  <dcterms:modified xsi:type="dcterms:W3CDTF">2011-11-28T20:06:27Z</dcterms:modified>
  <cp:revision>32</cp:revision>
  <dc:subject/>
  <dc:title>No Slide Title</dc:title>
</cp:coreProperties>
</file>